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F03D-4A93-42F8-92AA-FA036A73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D36-63E8-4925-B112-4AF1F8D8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861-E1D3-4EAC-AA23-B0801A6A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F3A6-02FF-43FD-BF30-9526D874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04AB-B074-43E0-8198-53594E4D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A420-3040-426A-B2C4-2D6BC55E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FDF3-96B1-4A82-BFEF-947A131B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5E49-AA56-4713-8897-99F0D198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848F-3091-46C1-A605-939A19D1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9CF1-A3AF-42AF-83C1-4B92B66F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9B9E-EB60-4E94-AFDC-5DA4D57B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7AED-D74D-4F3F-B714-6B6E9425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FEA1-0FE2-4153-9483-D325361E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E2C9-F8F9-48EE-935F-EBD9C1CB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5CAF-404D-4E80-8756-92EEE695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A6D0-8377-425A-92C6-174424BF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702E-8736-4E7D-98AE-419593FA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552-19BB-4EBE-A3DC-9A339879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892-C79E-42BB-8015-8849567D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B0D-9A09-45CE-B5BE-B02301B4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F66-2370-44EA-B995-3F9A7FBB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6420-F45A-4BA2-AE2B-FB16A1C8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40BD-BA6F-41A8-9ADF-811F0ECA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7450-918B-4310-BC1B-4A9A90E9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15C2-1C89-48D5-B95B-6CC11F9A7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E73F-D0B0-4B12-BEE6-6A0A22001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Linking Verb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Grade Grammar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Linking Verbs in the Presen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linking verb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is a verb that does not show action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verb </a:t>
            </a: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be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is a linking verb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verb </a:t>
            </a: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be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has special forms in the present tense.  </a:t>
            </a: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Am, is,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are the present tense linking verbs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I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am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happy.   Madison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is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my daughter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We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are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a happy family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Linking Verbs in the Pas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verb </a:t>
            </a: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be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has special forms in the past tense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were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are forms of be that are used the past tense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He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was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here yesterday.  They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were 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here yesterday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Linking Verbs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n the Past and Presen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17760" y="2063880"/>
          <a:ext cx="7600680" cy="384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7760" y="2063880"/>
                    <a:ext cx="760068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oose the Linking Verb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We _____________ having a good time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I _________ in second grade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at ____________ a funny joke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ohn and Ty _____________ in my class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Mom ____________ at work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8:44:07Z</dcterms:created>
  <dc:creator>GCSD</dc:creator>
  <dc:description/>
  <dc:language>en-US</dc:language>
  <cp:lastModifiedBy>teacher</cp:lastModifiedBy>
  <cp:lastPrinted>2005-01-10T20:35:58Z</cp:lastPrinted>
  <dcterms:modified xsi:type="dcterms:W3CDTF">2010-12-06T02:48:29Z</dcterms:modified>
  <cp:revision>6</cp:revision>
  <dc:subject/>
  <dc:title>Linking Verbs</dc:title>
</cp:coreProperties>
</file>